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4C4DE-647D-4472-8C94-AD51B71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19A3E-DCCC-423E-BE82-C0F89FB3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72D64-47D8-401D-83ED-DF9EFC2A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6E1FB-FC5B-45B4-8C02-2E1603E4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F9B98-31B7-4BEC-90FF-69F08EAC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34987-C39E-43AB-A480-B07EE729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0EABD-AB8D-4B7B-A404-EFD5A59E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2560-09D9-449D-8834-D6EE8512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8EA2B-7317-43F8-BFBE-3FD34104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DA98F-2836-406F-A470-6261FF75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8D118-2B78-44BD-AC01-7E887990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751AF-CD54-4F67-9F68-BA6913A7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051A6-0062-4645-AD4C-FBCCCFB6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0DCA6-A6C6-40C9-BC4A-E0D69B26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DEDDA-BE7C-4316-9ECA-2CE60EFC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E3D77-D9E3-4033-9581-80EA4860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65AA8-AAA7-4CDB-9E89-7F81A1CC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08069-1539-443A-A505-575F8044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216C4-CA1A-4EA3-A67C-E8108E74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1671A-8003-477D-B62F-35CA4494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2A043-818B-4C27-8BE4-E50E2E7F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B24EA-4DD5-44CB-B763-CADDBFFA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9915A-66CC-4638-AA3C-54340BD9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026B7-27AD-43A8-B843-10C18ADC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B2FD0-488B-4553-A1C7-A44B3111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1BFAD-6740-4837-9461-37E83136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FEDFC-FB93-40E6-B699-E146101F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F2219-14FA-420F-B4A5-53EE0E12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7FFE8-789D-4836-97C3-8DADD0EE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3C530-4275-4821-8723-CEF024C6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E28-73B0-485C-B625-18AE4259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21B4B-18E9-4C8E-ACD0-E73B541D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9BE7E-0C75-4E2F-9697-9AF36A17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43580-81E3-4AC7-BAB3-55064B60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1C6A4-F77F-43E4-9C75-FBC65EDC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F805B-FC51-4AEE-B1B3-29E35362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EF703-7FF2-49AE-9C59-CF221D39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79831-EB01-4331-A4FB-DB6AB56D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413E6-7DE9-449E-81FE-664C83E0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537EC-1A4C-447C-8D0A-F7748787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7EF85-893E-4625-B71B-FA7B264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66D-BF6E-4FAA-9887-EA254B47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4691E-1F4C-43D8-9E45-CA5E20F1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308B3-E1CE-4E36-BFF7-51A9115C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DE15E-BF06-4638-96E4-6AA8162F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0FD0F-D757-4AA9-803C-85CBA26D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A9B8C-68C6-471B-B868-7F21E672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675-DA99-4D74-AF90-103E0BE2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681-4689-4ACB-A920-7D1DC1AC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4C0-949C-401F-A32C-173FB8BF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989-8C1B-466E-9BB4-EB1F5052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3A4-0576-48A7-9939-C872CCA8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429-7604-4E25-99E0-2902348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85F-D7A1-4D52-BEAC-5CFD999F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E18-0D98-4493-921D-66DF95AC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88B4-0B3B-4EE6-A29D-3B6267A8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438-1AC2-468F-A042-5DEAB97E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13F9-7EA7-4AAB-A9F0-B6D6A69E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0A03-CD8B-49F0-82D1-2F00DA22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3237-F3FA-4244-883B-6653A535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07A1-C144-42AA-AC43-46C10019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5C2E-7697-473D-AFBF-BDE75189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F11E-5E57-4534-BF5E-3B79470A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1DB4-A6C4-4402-9226-0F8ABD8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3762-7823-40F5-A04C-B4A8AE1C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831C-51E9-4894-9183-5C7F10C5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F5EB-3967-4531-BB8F-E91E7EEF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B120-D16E-4109-989D-023674E3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DE5D-A86D-4B7B-A429-620471F4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5683-FB1C-401A-A1AA-EB50473B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DEB2-66CC-4B2D-9240-FE1A9716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BD806-00DB-40DB-A150-E88F07C1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3C46-7A1C-4577-A989-E9650616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0129-6CDD-46B0-B554-6A21D834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691E2-1EDE-48A6-A32C-BE2EC016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F71D-D571-4FA2-8D90-771F7413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11CD-F4C8-4DBF-B2B4-219854C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CA20-34F4-4B54-96B7-DDD0AA02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131B-F9E2-4BB9-856F-4DEFD240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D50B-E599-46A0-8E5E-731B2B17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52AA-9C37-416E-B415-C2B6F3F8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00F3-F393-4861-BE16-1DD8A77B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6AF9-2419-4AB9-ABAF-3584F0AC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42E52-2298-47E4-80CC-AE8F295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14BF5-3F9D-4500-8071-4521A4E8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2C09D-03A7-4F19-B1B7-FA4094C8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29940-692D-4F1F-921D-C4C8E910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D049C-45B1-44DF-A8BC-38D5C1EF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8A0F-81FC-4E81-816F-FB1BA69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9411-4D90-4BC0-9554-82CB95E5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A115-06F2-4D0E-A5BC-E10F458B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E4EC1-9FB3-4886-9E83-119D84B4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042A4-6487-4BD6-BDF4-766CB40A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17716-4D0C-4934-A87D-8D8C7619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242C7-8326-41A8-8BCD-26CB0485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C45E-38C6-4DDB-89E6-45822EB4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892D-D1D9-4EE4-9613-FA6275C7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2FD9B-FB99-44C4-A009-FC80AE62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A88D1-0B9C-44F5-9F0A-5FD7328C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55389-A461-4A8E-AD37-9C78395D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80037-47E5-4DD2-B2B3-2FCEC770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9EEBC-27C2-4E05-A3D0-7DC39BA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A4EF1-9550-4793-ACE4-05A762E7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CC2A3-ECA3-4AC6-BB44-A13F8181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9127D-1306-4A67-A56A-E30A25CF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D070F-D890-4741-962B-ECDBE6AD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EFE59-B78E-4A02-A4D8-E7456632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B7E00-9436-4271-9CC2-2F82B45F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E2E5E-E0A8-4B9E-90EB-637E1F47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981CD-3307-4A91-BE99-AC4BF467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03624-3331-4F63-B4E6-98C96940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342E5-0F3E-4D93-BFCF-0EB00401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74B17-50B4-40EA-8B53-EC9AD76A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D5EA7-E0E0-4648-89D7-9CE3DF92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190DE-D847-44D2-AB80-39F4A544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8D291-01A4-4981-A089-BAF86AC4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A090B-58B6-4654-986C-31688BDA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E0F77-A66A-4444-8994-B42B8932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6F97D-D91A-4EFA-BB0E-601D6970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B18EA-B7D7-4536-AA91-EA7D88EA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4E2DA-B40B-41EF-B9F0-002F786E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AC786-5348-42C5-8890-1B50AFA0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4B81A-CBA6-418D-BDB4-C4C2EC87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D304A-45E9-4C56-B24C-A56EF84C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B0F71-ACEC-4936-B39A-1945414E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61289-4583-47D8-ACEE-D65484A2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B5ED9-F021-474E-B41A-F4450F90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5DF39-0E5E-46DE-86A9-A8802824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366E9-1643-4FB0-8E9F-578FC061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293D6-0DCC-407E-8327-6840865D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862E4-C047-4B21-AB2C-8A162F14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B16D0-4E70-40B6-8F15-8CDCC378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F592-1663-45DC-92EA-3A82D2BE310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901B-B9C0-4AD7-9E1B-A8DC0AB30B1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FEF6-4ADC-48A2-8E37-0016DD2076E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B17A-D111-4E2E-A199-10112DC0867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A1F8-1DB7-4B6A-9C79-E736A026B62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5DB5-6F74-4A1A-92D2-33F70C6ACEE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88BC-6AAA-4979-88B9-812E9F102DB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A1D9-7073-4092-8D14-3F3A931C1A9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4978-1192-4233-A9B2-A24F2F07295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7832-B52A-4A9B-ACED-457F979F875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21F2-D45E-423D-A442-F82189D4D23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4"/>
          <p:cNvSpPr/>
          <p:nvPr/>
        </p:nvSpPr>
        <p:spPr>
          <a:xfrm>
            <a:off x="3522960" y="1714032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595959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9"/>
          <p:cNvSpPr/>
          <p:nvPr/>
        </p:nvSpPr>
        <p:spPr>
          <a:xfrm>
            <a:off x="2937240" y="415800"/>
            <a:ext cx="441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</a:t>
            </a:r>
            <a:r>
              <a:rPr b="0" lang="ja-JP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10" descr="あたり用写真.jpg"/>
          <p:cNvPicPr/>
          <p:nvPr/>
        </p:nvPicPr>
        <p:blipFill>
          <a:blip r:embed="rId1"/>
          <a:stretch/>
        </p:blipFill>
        <p:spPr>
          <a:xfrm>
            <a:off x="1184400" y="447516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85" name="テキスト ボックス 11"/>
          <p:cNvSpPr/>
          <p:nvPr/>
        </p:nvSpPr>
        <p:spPr>
          <a:xfrm>
            <a:off x="1274760" y="3459240"/>
            <a:ext cx="79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12"/>
          <p:cNvSpPr/>
          <p:nvPr/>
        </p:nvSpPr>
        <p:spPr>
          <a:xfrm>
            <a:off x="5216400" y="450864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図 13" descr="あたり用写真.jpg"/>
          <p:cNvPicPr/>
          <p:nvPr/>
        </p:nvPicPr>
        <p:blipFill>
          <a:blip r:embed="rId2"/>
          <a:stretch/>
        </p:blipFill>
        <p:spPr>
          <a:xfrm>
            <a:off x="1184400" y="895824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14"/>
          <p:cNvSpPr/>
          <p:nvPr/>
        </p:nvSpPr>
        <p:spPr>
          <a:xfrm>
            <a:off x="1274760" y="7869240"/>
            <a:ext cx="78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15"/>
          <p:cNvSpPr/>
          <p:nvPr/>
        </p:nvSpPr>
        <p:spPr>
          <a:xfrm>
            <a:off x="5216400" y="898992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図 16" descr="あたり用写真.jpg"/>
          <p:cNvPicPr/>
          <p:nvPr/>
        </p:nvPicPr>
        <p:blipFill>
          <a:blip r:embed="rId3"/>
          <a:stretch/>
        </p:blipFill>
        <p:spPr>
          <a:xfrm>
            <a:off x="1184400" y="1338732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17"/>
          <p:cNvSpPr/>
          <p:nvPr/>
        </p:nvSpPr>
        <p:spPr>
          <a:xfrm>
            <a:off x="1274760" y="12306240"/>
            <a:ext cx="78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8"/>
          <p:cNvSpPr/>
          <p:nvPr/>
        </p:nvSpPr>
        <p:spPr>
          <a:xfrm>
            <a:off x="5216400" y="1341756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図 19" descr="news_title.png"/>
          <p:cNvPicPr/>
          <p:nvPr/>
        </p:nvPicPr>
        <p:blipFill>
          <a:blip r:embed="rId4"/>
          <a:stretch/>
        </p:blipFill>
        <p:spPr>
          <a:xfrm>
            <a:off x="2163600" y="1012680"/>
            <a:ext cx="5962680" cy="2302200"/>
          </a:xfrm>
          <a:prstGeom prst="rect">
            <a:avLst/>
          </a:prstGeom>
          <a:ln w="0">
            <a:noFill/>
          </a:ln>
        </p:spPr>
      </p:pic>
      <p:pic>
        <p:nvPicPr>
          <p:cNvPr id="494" name="図 20" descr="line.png"/>
          <p:cNvPicPr/>
          <p:nvPr/>
        </p:nvPicPr>
        <p:blipFill>
          <a:blip r:embed="rId5"/>
          <a:stretch/>
        </p:blipFill>
        <p:spPr>
          <a:xfrm>
            <a:off x="801720" y="7454880"/>
            <a:ext cx="8686800" cy="193680"/>
          </a:xfrm>
          <a:prstGeom prst="rect">
            <a:avLst/>
          </a:prstGeom>
          <a:ln w="0">
            <a:noFill/>
          </a:ln>
        </p:spPr>
      </p:pic>
      <p:pic>
        <p:nvPicPr>
          <p:cNvPr id="495" name="図 21" descr="line.png"/>
          <p:cNvPicPr/>
          <p:nvPr/>
        </p:nvPicPr>
        <p:blipFill>
          <a:blip r:embed="rId6"/>
          <a:stretch/>
        </p:blipFill>
        <p:spPr>
          <a:xfrm>
            <a:off x="801720" y="11999880"/>
            <a:ext cx="868680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17:22Z</dcterms:modified>
  <cp:revision>46</cp:revision>
  <dc:subject/>
  <dc:title>スライド 1</dc:title>
</cp:coreProperties>
</file>